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B4E9-AADC-471A-B0CD-2A523573C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5057-442C-438A-870C-383800D79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0B9A-123D-4EFB-9BA2-26892DF75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C0B4-5A63-4347-95F2-23AA863C6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BDD2-2026-49EC-AA20-054B7E6D3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B918-4E7E-4323-B063-E46380358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CBD0-C880-486F-B122-29E4BF786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BFFB-3128-48EC-A84A-545398D58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8BE1-9C0F-48C8-BE7A-78F81495B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4D84-3047-4FE6-85C7-F4F36558A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90CF-BF79-4350-8F1B-5CAF110D2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E7E3-7D9F-49C3-B6F8-9C5FBB282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68D0-05BD-4BC8-A00E-3E0A785FC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AE5C-445F-48F6-86D4-EF00C6B04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6BBC-F2F0-4509-95ED-EA69CB4F6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1CDD-510D-4E9B-8F73-01E95EB7D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C7A4-F755-4F5B-A0DF-EFB6C2E80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A447-6261-47E3-82B0-523A04B9E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6F60-435C-4957-BE7A-6C13912D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30D9-8A16-467C-A304-57CDBADF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54D9-4ADB-43BC-87C5-D038DE2C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D543-8CAE-4692-9F1D-82A15E52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7F24-3CCE-4890-90E0-D5BD9CC2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3A2F-5578-42A6-8633-B61E6ABF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89BA-391E-4CBF-ACF2-3F751DDD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F937-8D2C-419A-906F-EEC3B1D0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8F46-C554-4AAE-8DDC-949082DE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009F-16EF-49F9-A635-1E4E77E9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3F10-8208-4ED4-99F7-C37DC207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2839-FDD4-4363-80F8-BB84A1B8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A12E-9AAC-44AC-BF75-42B14A29C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usatoday.com/money/industries/food/2003-12-24-mad-cow-qanda2_x.htm" TargetMode="External"/><Relationship Id="rId3" Type="http://schemas.openxmlformats.org/officeDocument/2006/relationships/hyperlink" Target="http://www.fda.gov/AnimalVeterinary/ResourcesforYou/AnimalHealthLiteracy/ucm136222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86200" y="1295280"/>
            <a:ext cx="4572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 News Wrapped Up In Prote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viruses.jpg"/>
          <p:cNvPicPr/>
          <p:nvPr/>
        </p:nvPicPr>
        <p:blipFill>
          <a:blip r:embed="rId1"/>
          <a:stretch/>
        </p:blipFill>
        <p:spPr>
          <a:xfrm>
            <a:off x="914400" y="304920"/>
            <a:ext cx="2666880" cy="43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get infected with some viruses but not oth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virus is specific for the type of cell (respiratory, intestinal, bacterial) that they invade becaus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ceptor si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the virus must match up with the receptor site on the host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Rhinovirus (cold virus) will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ct respiratory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-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w do viruses multip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iruses attack quickly and recruit the host cell’s enzymes to make new viral parts for more virus partic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ce assembled, the viruses will break free from the host cell which kills the host or pinching out  from the cell membr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virus-human-lytic"/>
          <p:cNvPicPr/>
          <p:nvPr/>
        </p:nvPicPr>
        <p:blipFill>
          <a:blip r:embed="rId1"/>
          <a:stretch/>
        </p:blipFill>
        <p:spPr>
          <a:xfrm>
            <a:off x="4648320" y="914400"/>
            <a:ext cx="3962160" cy="556272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4724280" y="22860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Virus multiplies and destroys the host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8380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403848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tent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irus injects its genetic instructions into the host’s genetic instructions.  The virus remains “dormant” while the host cell undergoes cell reproduction. 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vir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cold sore on your l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environmental or predetermined signal “stirs” the provirus to enter into the host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virus-human-lysogenic"/>
          <p:cNvPicPr/>
          <p:nvPr/>
        </p:nvPicPr>
        <p:blipFill>
          <a:blip r:embed="rId1"/>
          <a:stretch/>
        </p:blipFill>
        <p:spPr>
          <a:xfrm>
            <a:off x="4876920" y="533520"/>
            <a:ext cx="40384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V (Human Immunodeficiency Viru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V was first discovered in 19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V has killed 28+ million people world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million people died of AIDS in the year 2002 (that is the population of Chicago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V is NOT transmitted by saliva, sweat or tears or ins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modhivviruse3"/>
          <p:cNvPicPr/>
          <p:nvPr/>
        </p:nvPicPr>
        <p:blipFill>
          <a:blip r:embed="rId1"/>
          <a:stretch/>
        </p:blipFill>
        <p:spPr>
          <a:xfrm>
            <a:off x="4343400" y="144792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viruses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Animals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tack and destroy certain cells or cause cells to change function (can cause can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’t be treated with antibiot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 cells have NO cell wall to protect th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 flipV="1">
            <a:off x="6324480" y="380196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rabies"/>
          <p:cNvPicPr/>
          <p:nvPr/>
        </p:nvPicPr>
        <p:blipFill>
          <a:blip r:embed="rId1"/>
          <a:stretch/>
        </p:blipFill>
        <p:spPr>
          <a:xfrm>
            <a:off x="152280" y="1752480"/>
            <a:ext cx="4572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viruses affect pla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Plants they do the same thing, but can also cause changes in color (such as stripes in tuli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Much more difficult to get into cells because of cell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variegatedtulip"/>
          <p:cNvPicPr/>
          <p:nvPr/>
        </p:nvPicPr>
        <p:blipFill>
          <a:blip r:embed="rId1"/>
          <a:stretch/>
        </p:blipFill>
        <p:spPr>
          <a:xfrm>
            <a:off x="4970520" y="1600200"/>
            <a:ext cx="3392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orks against viru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ccines or immu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pre-infecting the body with sm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unts of a particular virus, our body             can build up antibodies that will fight it for our life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vaccine 1796 for smallp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ward Je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tibio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 against vir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jenner.bmp"/>
          <p:cNvPicPr/>
          <p:nvPr/>
        </p:nvPicPr>
        <p:blipFill>
          <a:blip r:embed="rId1"/>
          <a:stretch/>
        </p:blipFill>
        <p:spPr>
          <a:xfrm>
            <a:off x="7238880" y="3505320"/>
            <a:ext cx="114300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 Cow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BSE is short but it stands for a disease with a long name, bovine spongiform encephalopathy.  "Bovine" means that the disease affects cows, "spongiform" refers to the way the brain from a sick cow looks spongy under a microscope, and "encephalopathy" indicates that it is a disease of the bra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Is B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E is a progressive neurologic disease of cows.  Progressive means that it gets worse over time.  Neurologic means that it damages a cow’s central nervous system (brain and spinal cord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Yeast-Prion"/>
          <p:cNvPicPr/>
          <p:nvPr/>
        </p:nvPicPr>
        <p:blipFill>
          <a:blip r:embed="rId1"/>
          <a:stretch/>
        </p:blipFill>
        <p:spPr>
          <a:xfrm>
            <a:off x="380880" y="1219320"/>
            <a:ext cx="4038840" cy="39574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380880" y="60958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usatoday.com/money/industries/food/2003-12-24-mad-cow-qanda2_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380880" y="52578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ore information visit the following websi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da.gov/AnimalVeterinary/ResourcesforYou/AnimalHealthLiteracy/ucm136222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did we first learn about virus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known in the early 180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35: Tobacco Mosaic Virus -first seen under electron micro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411848aa"/>
          <p:cNvPicPr/>
          <p:nvPr/>
        </p:nvPicPr>
        <p:blipFill>
          <a:blip r:embed="rId1"/>
          <a:stretch/>
        </p:blipFill>
        <p:spPr>
          <a:xfrm>
            <a:off x="457200" y="1768320"/>
            <a:ext cx="403380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a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irus is a nonliving parti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irus is a strand of hereditary material surrounded by a protein co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ttack both plant and animal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viruses can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 or Lat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fluviruse"/>
          <p:cNvPicPr/>
          <p:nvPr/>
        </p:nvPicPr>
        <p:blipFill>
          <a:blip r:embed="rId1"/>
          <a:stretch/>
        </p:blipFill>
        <p:spPr>
          <a:xfrm>
            <a:off x="4419720" y="1600200"/>
            <a:ext cx="434340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are viruses not considered liv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uses must invade healthy cells in order to reproduc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uses that infect bacteria are known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teriopha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modbacterialphage"/>
          <p:cNvPicPr/>
          <p:nvPr/>
        </p:nvPicPr>
        <p:blipFill>
          <a:blip r:embed="rId1"/>
          <a:stretch/>
        </p:blipFill>
        <p:spPr>
          <a:xfrm>
            <a:off x="5181480" y="1523880"/>
            <a:ext cx="3048120" cy="4800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bacteriophage.jpg"/>
          <p:cNvPicPr/>
          <p:nvPr/>
        </p:nvPicPr>
        <p:blipFill>
          <a:blip r:embed="rId2"/>
          <a:stretch/>
        </p:blipFill>
        <p:spPr>
          <a:xfrm>
            <a:off x="304920" y="4191120"/>
            <a:ext cx="2066760" cy="220968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2449440" y="4876920"/>
            <a:ext cx="28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one is injecting D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 a c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eft Arrow 6"/>
          <p:cNvSpPr/>
          <p:nvPr/>
        </p:nvSpPr>
        <p:spPr>
          <a:xfrm>
            <a:off x="2438280" y="4648320"/>
            <a:ext cx="762120" cy="22860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small are viruses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uses are so small that most can only be seen by the electron microscope ( 1935-tobacco mosaic vir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7-3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nometers long (one millionth of an inch) and about one thousand times smaller than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only grow in other cells (host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Virus_diagram"/>
          <p:cNvPicPr/>
          <p:nvPr/>
        </p:nvPicPr>
        <p:blipFill>
          <a:blip r:embed="rId1"/>
          <a:stretch/>
        </p:blipFill>
        <p:spPr>
          <a:xfrm rot="18041400">
            <a:off x="4749480" y="736560"/>
            <a:ext cx="2706840" cy="4433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em_tmv"/>
          <p:cNvPicPr/>
          <p:nvPr/>
        </p:nvPicPr>
        <p:blipFill>
          <a:blip r:embed="rId2"/>
          <a:stretch/>
        </p:blipFill>
        <p:spPr>
          <a:xfrm>
            <a:off x="685800" y="2895480"/>
            <a:ext cx="4038480" cy="28371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990720" y="5335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bacco Mosaic 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adenovirus-150"/>
          <p:cNvPicPr/>
          <p:nvPr/>
        </p:nvPicPr>
        <p:blipFill>
          <a:blip r:embed="rId1"/>
          <a:stretch/>
        </p:blipFill>
        <p:spPr>
          <a:xfrm>
            <a:off x="838080" y="1752480"/>
            <a:ext cx="3033720" cy="327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adenovirus"/>
          <p:cNvPicPr/>
          <p:nvPr/>
        </p:nvPicPr>
        <p:blipFill>
          <a:blip r:embed="rId2"/>
          <a:stretch/>
        </p:blipFill>
        <p:spPr>
          <a:xfrm>
            <a:off x="4191120" y="1752480"/>
            <a:ext cx="4267080" cy="3497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609480" y="838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eno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hdc_0001_0003_0_img0246"/>
          <p:cNvPicPr/>
          <p:nvPr/>
        </p:nvPicPr>
        <p:blipFill>
          <a:blip r:embed="rId1"/>
          <a:stretch/>
        </p:blipFill>
        <p:spPr>
          <a:xfrm>
            <a:off x="1219320" y="3068640"/>
            <a:ext cx="3657600" cy="2274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DC%20smallpox%20virus"/>
          <p:cNvPicPr/>
          <p:nvPr/>
        </p:nvPicPr>
        <p:blipFill>
          <a:blip r:embed="rId2"/>
          <a:stretch/>
        </p:blipFill>
        <p:spPr>
          <a:xfrm>
            <a:off x="5742000" y="2335320"/>
            <a:ext cx="2536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ola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gpw-20050430a-fullsize-Ebola-virus-CDC-PHIL-ID-1181"/>
          <p:cNvPicPr/>
          <p:nvPr/>
        </p:nvPicPr>
        <p:blipFill>
          <a:blip r:embed="rId1"/>
          <a:stretch/>
        </p:blipFill>
        <p:spPr>
          <a:xfrm>
            <a:off x="1676520" y="1752480"/>
            <a:ext cx="6172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9T21:42:46Z</dcterms:created>
  <dc:creator>Miss Stephanie</dc:creator>
  <dc:description/>
  <dc:language>en-US</dc:language>
  <cp:lastModifiedBy>Miss Stephanie</cp:lastModifiedBy>
  <dcterms:modified xsi:type="dcterms:W3CDTF">2011-01-24T22:36:56Z</dcterms:modified>
  <cp:revision>38</cp:revision>
  <dc:subject/>
  <dc:title>Viruses</dc:title>
</cp:coreProperties>
</file>